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56F-F9C1-4EC0-B574-14FB1010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08F-AE54-4B72-A6F0-C5FBE440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8C0-B9B4-4F11-BFD3-0EBCFE5B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9C9-06E4-451D-A767-61CBAD1E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B13-6627-4EEA-8B1E-2E0500C9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89B-C55C-4B4C-90BC-0E23F047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9B1-3FEE-4092-896C-57963C44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1F4A-667C-440E-AB66-B4EB0F5B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55E-CEF4-4E58-B4DB-37565BEF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C76-6A83-4804-89AA-3303B582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0A7-8BAE-41F2-B3F6-C3EE641D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350-EE6A-456D-9E05-A2B22FF8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711A-4898-477C-A06B-CABD36B03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Clase 8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6 de mayo del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991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75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 es la cultu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7030a0"/>
                </a:solidFill>
                <a:latin typeface="Arial"/>
              </a:rPr>
              <a:t>L.O: to learn about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omingo, día 18 de febrer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2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alogo en V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s hoj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pter 8: Dialogo en V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CAPITULO 8: DOMINGO, 18 DE FEBR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57200" y="3962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21:23:13Z</dcterms:created>
  <dc:creator>Helen Zumaeta</dc:creator>
  <dc:description/>
  <dc:language>en-US</dc:language>
  <cp:lastModifiedBy>Helen Zumaeta</cp:lastModifiedBy>
  <cp:lastPrinted>2016-05-05T16:06:39Z</cp:lastPrinted>
  <dcterms:modified xsi:type="dcterms:W3CDTF">2016-05-06T13:30:37Z</dcterms:modified>
  <cp:revision>20</cp:revision>
  <dc:subject/>
  <dc:title>Me llamo ________ Clase 8im La fecha es el 8 de enero del 2013</dc:title>
</cp:coreProperties>
</file>